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64A-F9DB-420A-B7FE-6C9ACFEC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63E-E0E1-4658-82B4-E556EC9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94B-ECDE-413F-8D48-BA0430ED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69E-E0F3-42EB-8463-34E431A0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893D-DB9E-407A-8D19-0C717597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035D-3C8D-4C34-AC25-5F6CF169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7B0-8FD0-463A-A676-BDC9088C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30CA-260D-4AB7-9E72-EC71D2C3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6026-23BB-4F29-A2A1-7EB3D5E6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FFEA-1339-4BCC-8609-10A4137F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26E0-D44E-4B7E-BFBF-2BF37603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DA1-CDAC-46A5-A0CB-AFE9B2E3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B622-98C9-45AA-9B06-4CB638E4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4BC2-8171-42D4-93FD-01EBBA4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A654-5CAF-459E-BB56-E6C56156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742B-5960-4F96-BDFA-4715E2FE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7E07-9A86-4F90-85E1-227D61D6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560-8352-43EF-B2F7-801B7E43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701-6F99-4E5D-B74D-F1E32330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81E-D21D-402E-A483-4FF22932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291-8682-445B-8C1C-AB408A8A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405-3E37-4CF6-8853-7CFF3ACD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415-83C3-4DC5-B089-12695940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8FD-E8BE-4A84-A242-6E2A2D8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37DA-45CF-48C5-ABF1-231B926993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7DA-0B09-486A-AF7F-64C6D1D6E70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w-world.de/dw/article/0,,4706119,00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csmonitor.com/World/Global-News/2010/1017/Germany-s-Angela-Merkel-Multiculturalism-has-utterly-failed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ltural diversity in German speaking countr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anguage diversit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y Nick Cherne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ources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www.dw-world.de/dw/article/0,,4706119,00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www.csmonitor.com/World/Global-News/2010/1017/Germany-s-Angela-Merkel-Multiculturalism-has-utterly-fail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ttp://nimg.sulekha.com/others/thumbnailfull/angela-merkel-wen-jiabao-2008-10-23-6-34-3.jp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ttp://teambuildinggamesforkids.com/images/team_building_12.JP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ttp://www.pretoria.diplo.de/Vertretung/pretoria/en/10__GIC/02__GL/Diversity/Living__Together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ttp://kelsocartography.com/blog/wp-content/uploads/2010/08/201012eum978.gif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 rot="5400000">
            <a:off x="9254160" y="-384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ttp:/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9371880" y="-65160"/>
            <a:ext cx="115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www.csmonitor.com/World/Global-News/2010/1017/Germany-s-Angela-Merkel-Multiculturalism-has-utterly-fail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ifferent languages in german countries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rry Hoerler lives on the edge of the German coast and he speaks a language closely related to Germa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 speaks underduetsch which is a German- Creole languag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 says that his family usualy speaks at least 3-4 languag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language they speak would typically be english, german, and a variety of regional and indigenous languag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oday there are less than 100 undeutsc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ferent languages interact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5" descr="team_building_12"/>
          <p:cNvPicPr/>
          <p:nvPr/>
        </p:nvPicPr>
        <p:blipFill>
          <a:blip r:embed="rId1"/>
          <a:stretch/>
        </p:blipFill>
        <p:spPr>
          <a:xfrm>
            <a:off x="1490760" y="1447920"/>
            <a:ext cx="3925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ifferent languages in german speaking countri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emocrat Angela Merkel has said multiculturism has fail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he said that different languages living in Germany doesn’t wor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oreign speaking people started going to Germany for work in the 1960’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0% of people in Germany felt that Germany was overrun by foreign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rst Seehofer, of the opposing party of Merkel said “multiculturism is dead.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gela Merkel with other cultur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5" descr="angela-merkel-wen-jiabao-2008-10-23-6-34-3"/>
          <p:cNvPicPr/>
          <p:nvPr/>
        </p:nvPicPr>
        <p:blipFill>
          <a:blip r:embed="rId1"/>
          <a:stretch/>
        </p:blipFill>
        <p:spPr>
          <a:xfrm>
            <a:off x="1128600" y="1371600"/>
            <a:ext cx="3876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fferent languages in German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Germany they are trying to help foreigners learn their language so they can interact bette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ean Zecchinel of the article is from brazil but calls Germany his new ho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anjun Ying from china studied architecture in Germany and says it is a good idea to help new foreigne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re are 15.1 million people with different background but live in German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re are many schools in Germany were different languaged people make up the major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erman Diale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 was the German-Creole language calle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en did foreigners start going o German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nderdeutc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960’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7:32:40Z</dcterms:created>
  <dc:creator>SCSadmin</dc:creator>
  <dc:description/>
  <dc:language>en-US</dc:language>
  <cp:lastModifiedBy>SCSadmin</cp:lastModifiedBy>
  <dcterms:modified xsi:type="dcterms:W3CDTF">2011-09-01T17:32:03Z</dcterms:modified>
  <cp:revision>8</cp:revision>
  <dc:subject/>
  <dc:title>Culteral diversity in German speaking countries</dc:title>
</cp:coreProperties>
</file>